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AF2-DE77-4377-A9EA-0E048AC5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B0B-5280-4182-842A-6D6EA570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CC52-AF80-4467-B04D-209B8E68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4445-0743-4D00-BB5D-0E89709B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37B54-E22E-4F61-A9A8-BE90B4C1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22E2-1557-46A7-8B5E-569E7E1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D1114-F87C-41A7-93A4-52A4F66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A28B8-0090-43F0-B2BD-117A2201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BDE63-811A-4790-97F4-947D0DB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379F8-EA84-4711-8108-EF1A6F1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FB734-15BE-43F2-B70F-24DEFFC8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2538C-2A5F-4D49-B7BB-8DAD0252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5C2-FF43-4906-9196-FAEA3521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4606D-7D47-46EB-9E7C-0865485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69E54-CE97-4491-A152-A9AF569C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D6B63-4892-4067-9A39-5459ABF4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8EF3-23D2-4047-9E3D-6432A340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855F0-12DD-4BC0-94A9-842D1E8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DBC43-FABC-43F5-A829-BDBB5BB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89D6-40BF-4955-85BB-E940313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5316B-5B98-4839-9440-B3AE780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B720C-7C46-491E-A699-CD84F13F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0E7C4-5CFA-4937-8FA9-5AA8296B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917-1B92-4959-81F2-DD634CB5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85E4B-8709-4C9C-9519-026DA4CD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B13B3-FF58-4B27-B563-0345C360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7B5BA-2840-42F5-BFBF-CB8466C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6164F-34FE-4746-9F74-E670D3E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FF21A-BA83-48FC-A1A2-6C2A4BB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31727-7E18-401E-ADDE-36BA119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4819D-A8E0-499A-A654-F04BF718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8068-2A1A-416C-9875-9A7D6FE7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A2DA1-811A-4A78-B150-F45B20C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75471-41B7-4D78-BCB9-F1B01B3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1D2E-92CA-4160-9BE9-B0E33650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8037A-83EC-4326-AC49-4E1CA34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3CBB0-9928-4E8D-8F14-F728669F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240B-9E43-4AF3-A75C-975A331B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AFE6A-D60A-4453-BAAA-E6EF4892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6CAB3-66DC-4C13-B9BA-796C2274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D6AD6-B8E1-4AC0-815E-9C70C44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C34D5-8B6B-490D-8C90-BD8BA1D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66F7E-719C-41AF-BB78-8098CD88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2544D-E33E-4C0B-9228-AE80C84B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6C781-D1E4-424A-BC9A-F99F024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E572-69ED-4BBD-9425-6A83A087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89091-8BC1-4440-8366-033AB57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135B8-ADD8-4383-A309-96D2513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7C8E8-3280-40EE-A73A-EB1D24CF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8D8C0-C4D6-4B89-8046-A027FD50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BF9E4-9BDF-40D2-AC9A-6499043B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57AE1-BEB4-4D51-9B9E-540CEC11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4089D-6A85-4DA0-BAB3-44C8FFC5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99B4F-7E9D-4C16-A405-7A560B7A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1A085-CF65-4837-BB0B-6B9E6F9D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92BCA-8D6A-4E3D-AEDC-9EB8D74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440-CE71-4F56-B84C-3AECE50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EEBED-1905-40D6-8C57-E589DC4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4A5D2-BA6B-4D8E-A666-13FAC8D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90028-60A4-4663-9734-AE076AC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D4B0C-D9ED-4DD8-B2A2-7DAFF6BB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F5C81-4D25-4EEB-97A9-E1CA4597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77215-FEF0-4213-976B-450E27B5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2289E-A200-46D2-9B49-0A20FCCA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B1692-3019-4603-80F2-1601608D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1F4F8-6187-4A92-A4EA-1485AB17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7AC06-D2DA-4384-B4F5-71A39A1C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265-AD00-4FB9-BCD0-E6383DFF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34980-47DB-40A8-BFB7-36312F4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38999-165A-4E65-A270-4B703092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7D5BA-A94E-4AAE-83E1-5E920C9D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508EE-B488-436E-BEAA-394C111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0FFF8-9E2A-4AD6-A8B4-700DF145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B6244-FAA6-4B20-893B-F3C0F45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6974E-B206-46B3-AA8D-6AE8A946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1B73F-595A-4638-B069-FFC6D5C7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E136B-6D21-4833-AD99-10A98AF4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1A16A-A295-452C-BB76-DF0D2EBC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B5D9-0F4D-49E5-B72A-ACF2025E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7C932-B0F1-4E88-9B0F-FAA6F9E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61EFE-5FBA-4680-B949-6F618B3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CE90E-2140-408C-962F-14B84F0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82476-E49B-4B4A-92BB-1AA610D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700A6-D5BA-4940-B224-BC93177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3F175-BFEE-4B25-A775-D18E841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C69EB-787A-4109-A832-B36F9D7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53115-67CD-4832-A16D-D6B483F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5A673-2205-46CB-A27A-2A12A89F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2456E-A130-4147-9C48-3B6362A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2511-DB96-46E5-B648-036B4D6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155A8-F739-4EEC-ADC5-7BC732F2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41A1B-4C55-43D5-9E25-661B8CB6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6E7B5-E595-47F3-A3CB-17B4DB2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AB661-6605-47D2-9C06-1A8F167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644DA-FB5C-41C6-BB4B-EAB1059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E3B03-04E9-42F0-ACB0-AF0DC0A3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8AB8A-1171-46D4-B6A1-5802D7B2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D9D2F-8733-4898-A704-32AC777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B56EA-AFC9-48FF-8E62-793F1C0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964E3-D41A-468D-A12D-C547BA4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CBCF-0958-4AD0-8CF3-4C4CDA71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1FF3A-0AFE-4D89-9F3B-3B5E97FB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7EC80-C0D7-419C-BF01-DD570BA0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D03BD-9BD1-4B11-B8EA-824EDE8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77604-6897-4FCE-B173-7EA844DE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D432D-E16F-44E5-88C3-6E676BFB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86180-248D-4E79-944A-E138A63B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B945F-D12B-48A8-922E-59AB3DD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0BA41-C2B4-403C-A849-1CA3AC2B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5C6F0-70D4-445A-BEA6-467741E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B1452-0B6F-4BD2-B6D8-8409F97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CE8-9B19-482E-AFB7-E25574A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6D3-C892-4AF5-870F-5D365B5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CA088-A53D-482B-9216-CDFA04E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CEEB0-9F3B-4E48-8977-EDC1A11A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84482-75C3-4B63-88C0-489DF142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51E49-CA41-457E-92C9-6EC3EFA2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D0F04-5A11-49D2-BE1C-EFCD7840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F0BFA-7E44-41A9-B198-7315093C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88748-574E-41CA-A4A5-1B159B5A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B0BE9-8ECF-4274-BB27-A66825A5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97246-1521-4E5C-9D36-58C03B5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B2857-925B-498F-A6F0-4951AD4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00E9-9B23-4776-9964-92D6D58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DE3D3-78E0-4F7B-B854-8AB4B1F2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26122-E067-46D4-A13A-E094B5A7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235F4-A26A-4819-B451-F29E721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16199-D59C-4219-9664-A1ACC2B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0D536-E28B-4F0C-BBDC-DE24D612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BA546-7525-4FD9-86B1-1F61F68E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99868-10AE-4B34-B36F-3CA00EC8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F0392-FA85-4118-840D-9692F9E6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592C2F-B459-47E9-A575-E74E9A42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23101-5D50-49E4-B683-7FCE64E8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EF35-BACC-4AB6-8A83-04598F0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3853B-6F95-4582-A247-B6D034C1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1248B-ACEF-48B1-8187-4C23A433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834B0-C0F5-4D84-A492-CA2ED80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99E4C-D19B-4063-91CD-64CEC1D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5CF33-F8D1-4699-9793-144BBB8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B44FA-A938-436C-84D0-8A76A7D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941B0-C837-4668-80AB-1E4338EB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E390C-AD8B-45BE-8408-94D35442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8CD8B-DCDA-4E48-ACA6-631550C3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BF23E5-14C3-42D9-8A04-3101E0B9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9C5E-E0DF-4B41-8A92-BE944A57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EF16C-ED85-4841-82CD-1A744B3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4A6F1-202E-4DCA-AE29-8E71995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82285-4645-49F8-8206-9740F85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23F18-A671-4A61-AB27-4508FB8F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A4C7D-96D2-4E8E-8CFE-1A05E9D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B841D0-892D-4529-B843-318672BF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3D013-FB9B-4D6C-8EB9-06DED2E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3126C-93F9-4FD5-B4D7-BFCC791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43721-07C5-4E9A-9E6E-BF4405BE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E7FA8-07FD-442A-8685-B9CA1614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C21F-5D16-4537-8B9F-6013AE29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A63F0-EC82-40DE-AC00-D446466C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3C763-5EED-47ED-9FC0-4064D278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EF82C-7B24-4F30-96E6-3AB82346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ADB01D-BDC8-4D55-B51E-C18A2D0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2FFB3B-5381-4E3A-B564-5E180028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34453-4714-48CE-83B6-AB2E5E92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86491-B65C-4495-8FC5-0E61FEF3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C7C86-C163-4751-93C2-105D8D9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BC634-C216-4E7C-BE98-C46DDF2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F4C5D-E553-40F8-BFB2-AF5AF11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106F-3FE5-43AB-A65C-359FB2BB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7715D-AC25-4DEC-B7A6-51F3B23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F4085-27CE-4044-9E8D-4D83DD80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3455E5-6B68-49A3-887A-DC1DCE36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7B4C7-ECB9-4636-B4AF-F7CB0ECF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A7D6A6-2218-40FD-A9EF-7F8F59A2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F1818-11FA-4D92-A846-77A04F3F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7DD022-3399-495E-8441-C9D6BAC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18E5BE-BED1-4020-948F-9A86E4C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A36619-332D-48BE-9E68-693CBC8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976905-D0EC-41E1-A7E3-43C2B40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7B3F-4BFE-41C8-84D5-CFD16AD4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974E8-4768-48D2-89A7-1F9FF5A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30639-9613-4F29-A4ED-E82C5F4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95F7D5-150A-43B7-81A2-7DBAB056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A9BF9-31B2-4A7C-9EF5-4BFDCE1E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7A95B3-5B65-4D4F-A584-5C9C6B06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C4AECC-5E7B-4ADC-A644-504B202D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950D3-1D86-4ECA-9657-B76C418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81CF9-D9EF-4173-986E-23CE1DF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7A076-D999-40C7-AAEB-08A7A77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A4F43A-D4E0-4F43-9753-6BB4DD6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3F11-12EE-4BEE-A4F8-4E7426C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3482F6-48D8-4932-8AE8-B321104F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A19D7A-0342-474F-B9B5-0097032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0E7618-7538-4DA3-A15A-E1638170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2D5AAF-C0DF-4BFC-A361-C61A925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95FD8-4BF1-42C5-BCD4-EDCD87E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FDF90-003B-45D5-A5CC-3B1DC3B0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55F418-07F4-4BAC-80AB-D0DE30AE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A5FD14-2A93-4071-B2F3-5DF25573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20642-4F8F-4834-9D30-30359F3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32E70B-C6CB-42D7-80CF-F9B7052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0389-7EE2-4D8B-AFD2-5A92DC3F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D4A294-791C-427C-9932-DA4B096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6F950-08E2-46D5-9409-A032647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7237C7-092A-4B4F-BAB6-0D5D4356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D628A2-32A1-4306-A759-7ACE3E1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B859BA-956D-4E65-A21A-151451C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F2EEE9-4E91-4327-9659-1B30E04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FAD40-44B5-48A5-B9FE-983B265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3005D-5082-47E4-A630-23865CA9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5814C-8A73-4FB7-B807-18750C5C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9E4FC2-A88E-445D-AA0B-9D6AFD07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ECA4-B066-4558-971A-796C305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1447C-03D9-42EB-865F-F7A971C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6B441F-A5BD-4747-9169-7B9B605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A1245D-4FB4-435C-BC9B-B52E719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998CA7-6CD2-40CD-A0F3-D4AEC393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5ED60A-5F47-4C8D-B052-AFA7D626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4BCC80-C792-4C4A-AA79-BF23871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D38E66-9748-4412-B51B-9E739C3F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58709B-6D12-4B5B-992A-1768E8E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602B59-8C1A-40CA-92BC-CA361F25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90FCCD-D430-46A9-B9C9-BB5FA88A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088-F2D0-4E3A-BD22-F2003BE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1596-7FD2-45EB-95DF-36725CE5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ED3D8B-6C0D-48F8-B3D1-7E8A93C2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6C5E8-1FF3-4DC4-9C2C-BD200D43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4B1E9D-D43E-4094-BA7F-AD550075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D22E61-6E5C-4D28-8BD3-C85CF8AD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AD69CF-C043-4992-A6E7-62FEE026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B67AA5-0E29-4F56-B4DD-9BDE7167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2A7912-09E4-4DE5-B5A6-00CF3AD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D2A63C-CA73-4338-90D5-BF4D6D0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E9B1F8-0223-4D80-A4DC-8B16497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186200-E3D5-4042-87EE-57C10D1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6C9D-929F-47FC-9533-88B5A9A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BAC4BC-183F-4711-8559-DFDACA57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398301-9011-4022-B054-5868977A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561125-3349-43E0-A1B3-96608494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BC4C3D-F150-4735-842C-2A479B72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08CD71-3834-426F-902D-4E094FC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38D0F-457E-4C69-B766-6CA279DA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526A44-2CD6-44C8-AB0F-841A5209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0C3F7E-34A6-4E3B-A352-91027430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C8208C-EDE8-445E-AC3A-0A10B39A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E1006E-542F-43D6-B585-964B109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1A6C-87F2-4A14-ABD7-A09DF8DE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D7CF8F-6FE6-4A68-918E-EAA48E4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85F7F5-9DB1-4A01-AB55-C9C9A2B8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8D0FC3-4347-4851-B2BF-86173107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17DC7B-BBE1-4CA9-BDF4-897E8CB6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F3D02A-8FB6-4FC9-B938-E4632E88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711A2E-EB6A-474D-A8E3-2F7F00C1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702991-D5C6-4A6B-98CF-9702CD87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0F1117-3039-4D8E-9510-1569C5FD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FA91D4-3E25-4207-A96E-A86D109C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3D1F75-A65B-487F-AEF2-788F1D70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C29A-A278-4998-A829-3638B19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E61346-0B0B-42FC-908D-1220D49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7E012E-21DD-4A14-9C80-4129080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5EC8B1-C2CE-430D-ADC6-E004D3E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46753F-DEA6-4AD9-9402-F52652E2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6F457F-941F-44E0-A8A4-65858E9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1D4391-2065-4F30-9DF1-63581492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420159-351E-49EF-A214-AED6ABE7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2213E7-720D-4732-848A-AE7A7250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01C66E-0BFE-4806-B274-7FA9F42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B9570C-EC0E-41C5-A6B8-BA46EAE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129B-6425-4A4D-A007-459C7DAA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3E737B-6267-4546-B00F-E7F3F3D1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D25F0E-9936-462C-97CB-FACDDF57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868FE1-BD03-4CC0-AD26-F6AA942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159E8-A965-4C7C-9AD9-52EC48A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E989B9-9DAC-441C-B698-7A04B09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140B3F-B287-4163-BF50-06B4832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F1EE5F-1D50-4702-9CEF-32E40F1D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687231-9EC0-4877-B601-4B0D49CF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1DBEE6-BF1D-4505-8304-78B1C288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81B12B-16A0-474D-A7AF-B69BF9AD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D21F-6C11-4533-A849-78C85119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723C98-1C33-41FE-8B4D-CE6F3D19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BCBAA7-D032-4AAE-BC76-AE0EB424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8FF96E-EE2D-4F87-A65D-9A5B608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7745B-AEBA-4AE0-AA48-8310708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DE93C2-FADC-406B-8C4B-C04A30F8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76DD05-7CF0-478A-858E-D14A60F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912A50-8DF2-4EB4-AEC4-F836CD5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559C12-ACFA-4E82-BD7F-C92461B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58F3C6-500A-4794-B8A4-CB050E8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5CC249-5D25-4CE7-A598-C9E7E849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6E2D-C9D6-40E6-8277-D9D4520D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78A524-D7A0-414F-A5D3-BE9BA3EC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8527E1-807F-4B7A-ABFE-DEB75CFD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F530B0-D6A6-4D52-AA5F-38D22E8D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841BB7-2A10-431B-9991-CC8D3D98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DCE70E-2506-43B4-B30A-F7FE840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7BAC14-4BE1-4361-929A-759D6E26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1BBA9F-F044-465D-AD4E-AA52837A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E36582-58B0-4027-B67B-66FFD32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5C0DE3-0634-4078-AA14-A5648A4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8F6408-12D8-4901-BF49-E9DD2B7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6872-1545-4BA1-8886-7031FD4A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374FE2-8CB1-4ACA-9346-10F414C7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388544-17DF-4C95-9C86-0F498765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57E096-1210-4761-821F-462EC90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0C77-C7D5-4394-B77D-E81DC49D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E133-916F-4E62-B17B-B0F421A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272-154E-4D57-A4E3-41D53E4D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432E-1141-4B31-988A-8DD0F97F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8C5D-645E-4B76-B444-5103C53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3F6E-AD84-48B1-88C8-86806DCE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98EE-B122-4478-82A3-39F9ADA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B11A-8C4D-4F45-AC3A-40EA2F7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179C-BE0E-43F1-AE08-C0F4648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39F3-9B08-4335-8C4A-4557C078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E8A8-31A4-4253-B000-D4533CF9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9AD8-6374-4A59-BBC1-D71652AC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0660-B8A9-4098-B990-B44ACFFB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0CB-215E-4DFB-913F-5FFA7C01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525C-BA62-43A4-99C3-D61F2A1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F44D-42CF-4AFA-B537-DBCF758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3D92-3BA9-4FDD-ABB6-64DE301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E2B3-78E6-483D-9F60-A42B3215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CD88-78EA-4292-9959-CA694F2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3B167-7D64-4305-84A7-1BEF018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5768-99CF-45D9-99E6-84D21A3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8C7F-3B6F-42C1-9735-DCF87E8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39BC-27D6-48A5-A2C7-0219CBC0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1BA5-6B63-4B3C-BE0B-4E1C32C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AB3-6354-41F5-B1F7-3899C008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82DC-29C3-4804-80BE-123CE938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A7B5-B671-482A-9364-6897E1F4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235B-6924-43FE-992C-80D3AA3F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EF6AC-6809-49DD-BCD5-0E99957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4273-6DCD-4073-8D0D-45A0298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9F2A-2BEC-4FE7-B710-C1EB12D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ADE2-9CA5-46A6-B52D-DE834C6F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3543-8C3A-4F3F-93F0-D03B564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E5D3-2D05-4B07-B4E5-9617B3A1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70F8-23DC-48ED-9101-DF7E41C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B23-2A00-47A4-9250-9AA4C96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A2D8-5535-471A-B207-9584D91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9E3E-9164-412F-95EE-AF033FD5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EE53C-41A2-41E7-9C77-D3A50766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0F0A-212B-4C41-8A6A-9A5909EA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581E-6E83-43B9-B8F6-EBB1B11F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70A4-0989-4A96-845C-1533314D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8920-05C0-42F6-8ADC-D39E9029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D008-5743-4C1C-986D-601EF1D0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F71E-248D-483C-8AC8-433360D6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A0DE5-1BCC-45D6-B0DB-209F608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10E-0AAE-4B8D-B93B-D643A9E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4A84E-63F3-4FDB-98F2-78E0832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7ADF-4B41-4BBB-9125-90A37DB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B38F-3FA0-4F05-99DA-52CE2A8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4296-2296-471D-B90A-4ED65F9D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1862-F889-4915-A90D-2C832180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BBB6-65DF-4FE2-84CF-933CCCF6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A49CF-8D8B-457E-AF57-0C052189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ED4B3-2B04-4346-A0B5-FEF2D23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84F7B-AAA1-4E61-AE61-61F66514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EC3B-BC8A-4168-81BD-FAD21424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11F-89FD-4CDE-A1C8-4F92799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1DDF-3C69-463B-A52F-CAE869A2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A152-6DFB-4D6A-815A-193AE95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1BCBB-8607-4E66-99D8-E49BF4B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2FC68-42C2-4C0C-8B83-9313E934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09A7-4347-4D4B-8CD9-902A7126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E9A0-BA7A-4635-B914-7E001BDC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39DD-A7EC-475C-97B0-1DCB9799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9DE78-5B45-43F4-A132-E94B999C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3E4F-A57F-4DA3-86AB-281EDBE3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916D0-814F-48BF-825E-BD7A91C9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2DEB-2D0F-4BA7-8BB7-2AB4D99D03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C04F-695F-4B34-A7BA-76F941AF5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CB7-B248-4D61-9BCA-F87AF134E8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3D7-C7B5-4797-9A1B-604A861345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B2D6-08E4-44E3-BA84-7ED32818A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86D4-8D1C-4658-93BC-C2E99A85C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2B17-D67E-4B3D-846E-2FF9903F54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80A-D713-46EA-9ECD-B355A250F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71B3-E79A-40B7-8A2C-57BA4B7E3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274-54E8-408C-A1F7-8B980E1A2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945-4EFF-44AC-BE6A-0FCE5DBB0B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3ABA-7022-4CD2-B1C5-B37443505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FA2-40CB-408D-BD52-6F1348A167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39D-F913-482C-8AA8-D333B86A8D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0898-D8B7-4553-AD0D-EFCB6C676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B3B-45DE-4EC7-95ED-8EC6AB55B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0AA-F9A2-4CBF-BED1-B8142FD7B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3625-E5CD-42A5-AFC8-5270D7EF0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650B-B993-4F96-B06A-24675A0F8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04E-5B4B-48A8-8690-78B9E72219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D7A-4255-467E-BFDF-54C3DFED6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77E0-F8AD-402C-ABE5-D204D7880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BBB-1C59-474F-A9B7-9E77B7089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7C03-B6B8-43CA-830E-A1D282378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AF28-A48A-4447-868E-05D67422B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768-3848-4AF6-97EC-1398A4B535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392C-A01F-471B-9530-CB0AD8502D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745-8DA8-4267-95F0-250945DE1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C319-A647-4B1B-8C61-AA78BB3B7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7FAF-80AC-4914-BAE6-297305B0B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11F7-5A9F-4485-BEAD-5DF674CC7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E9C6-E69E-4700-989F-2E91B79C4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BBE-17F1-4503-A4C7-0F49C0B2E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9A8C-567A-409E-92A0-9268AFB15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122A-B147-4395-B952-6B9251902D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4B7-15F7-41B6-B572-7DB043E15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690-6C6E-4F23-9672-285D033B41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30CC-1FAF-43D8-82BD-3DF0E985F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67BB-8E27-4B05-87C0-89C8A5274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470-86B4-4D06-94DD-A3741704AF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5B04-F9BA-48E9-8A22-66DB27370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6ED-EA55-4820-9EFD-FC153D183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EA6-F06D-4144-B3B2-19B1E589D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B74E-11F7-4905-9228-4E0DD14E7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BF08-67A4-439F-9C2D-E6F9D4DBAB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5D23-6027-440F-971B-0B1B00020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4FD2-6FD9-44FD-AA3B-648039171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695-1C61-4A34-A145-F587FC1E0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B3F-0066-4FCD-9C3D-83B4FA8A0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82F-18E9-43E9-B317-B4D0176B1D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241280" y="1009800"/>
            <a:ext cx="6915240" cy="14094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700200" y="3062160"/>
            <a:ext cx="774360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132097" descr=""/>
          <p:cNvPicPr/>
          <p:nvPr/>
        </p:nvPicPr>
        <p:blipFill>
          <a:blip r:embed="rId1"/>
          <a:stretch/>
        </p:blipFill>
        <p:spPr>
          <a:xfrm>
            <a:off x="353880" y="957240"/>
            <a:ext cx="5210280" cy="288612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32098"/>
          <p:cNvSpPr/>
          <p:nvPr/>
        </p:nvSpPr>
        <p:spPr>
          <a:xfrm>
            <a:off x="1243080" y="2373480"/>
            <a:ext cx="37400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2099"/>
          <p:cNvSpPr/>
          <p:nvPr/>
        </p:nvSpPr>
        <p:spPr>
          <a:xfrm>
            <a:off x="1406520" y="2867040"/>
            <a:ext cx="37400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2100"/>
          <p:cNvSpPr/>
          <p:nvPr/>
        </p:nvSpPr>
        <p:spPr>
          <a:xfrm>
            <a:off x="1581120" y="3421080"/>
            <a:ext cx="37400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图片 131074" descr=""/>
          <p:cNvPicPr/>
          <p:nvPr/>
        </p:nvPicPr>
        <p:blipFill>
          <a:blip r:embed="rId1"/>
          <a:stretch/>
        </p:blipFill>
        <p:spPr>
          <a:xfrm>
            <a:off x="542880" y="857160"/>
            <a:ext cx="5772240" cy="59054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131075" descr=""/>
          <p:cNvPicPr/>
          <p:nvPr/>
        </p:nvPicPr>
        <p:blipFill>
          <a:blip r:embed="rId2"/>
          <a:stretch/>
        </p:blipFill>
        <p:spPr>
          <a:xfrm>
            <a:off x="6732720" y="6308640"/>
            <a:ext cx="857160" cy="39996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1076"/>
          <p:cNvSpPr/>
          <p:nvPr/>
        </p:nvSpPr>
        <p:spPr>
          <a:xfrm>
            <a:off x="1047600" y="1644480"/>
            <a:ext cx="5856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1077"/>
          <p:cNvSpPr/>
          <p:nvPr/>
        </p:nvSpPr>
        <p:spPr>
          <a:xfrm>
            <a:off x="1488960" y="2558880"/>
            <a:ext cx="5856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1078"/>
          <p:cNvSpPr/>
          <p:nvPr/>
        </p:nvSpPr>
        <p:spPr>
          <a:xfrm>
            <a:off x="2001960" y="3422520"/>
            <a:ext cx="585612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1079"/>
          <p:cNvSpPr/>
          <p:nvPr/>
        </p:nvSpPr>
        <p:spPr>
          <a:xfrm>
            <a:off x="2371680" y="4336920"/>
            <a:ext cx="5856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1080"/>
          <p:cNvSpPr/>
          <p:nvPr/>
        </p:nvSpPr>
        <p:spPr>
          <a:xfrm>
            <a:off x="2670120" y="5118120"/>
            <a:ext cx="5856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1081"/>
          <p:cNvSpPr/>
          <p:nvPr/>
        </p:nvSpPr>
        <p:spPr>
          <a:xfrm>
            <a:off x="2700360" y="6043680"/>
            <a:ext cx="585612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图片 130049" descr=""/>
          <p:cNvPicPr/>
          <p:nvPr/>
        </p:nvPicPr>
        <p:blipFill>
          <a:blip r:embed="rId1"/>
          <a:stretch/>
        </p:blipFill>
        <p:spPr>
          <a:xfrm>
            <a:off x="420840" y="928800"/>
            <a:ext cx="8048520" cy="5610240"/>
          </a:xfrm>
          <a:prstGeom prst="rect">
            <a:avLst/>
          </a:prstGeom>
          <a:ln w="0">
            <a:noFill/>
          </a:ln>
        </p:spPr>
      </p:pic>
      <p:sp>
        <p:nvSpPr>
          <p:cNvPr id="1386" name="矩形 130050"/>
          <p:cNvSpPr/>
          <p:nvPr/>
        </p:nvSpPr>
        <p:spPr>
          <a:xfrm>
            <a:off x="770040" y="3308400"/>
            <a:ext cx="70088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0051"/>
          <p:cNvSpPr/>
          <p:nvPr/>
        </p:nvSpPr>
        <p:spPr>
          <a:xfrm>
            <a:off x="831960" y="4160880"/>
            <a:ext cx="266220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0052"/>
          <p:cNvSpPr/>
          <p:nvPr/>
        </p:nvSpPr>
        <p:spPr>
          <a:xfrm>
            <a:off x="503280" y="4726080"/>
            <a:ext cx="70088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0053"/>
          <p:cNvSpPr/>
          <p:nvPr/>
        </p:nvSpPr>
        <p:spPr>
          <a:xfrm>
            <a:off x="822240" y="5526000"/>
            <a:ext cx="266220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0054"/>
          <p:cNvSpPr/>
          <p:nvPr/>
        </p:nvSpPr>
        <p:spPr>
          <a:xfrm>
            <a:off x="781200" y="6040440"/>
            <a:ext cx="266220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图片 129025" descr=""/>
          <p:cNvPicPr/>
          <p:nvPr/>
        </p:nvPicPr>
        <p:blipFill>
          <a:blip r:embed="rId1"/>
          <a:stretch/>
        </p:blipFill>
        <p:spPr>
          <a:xfrm>
            <a:off x="507960" y="857160"/>
            <a:ext cx="8153280" cy="5448240"/>
          </a:xfrm>
          <a:prstGeom prst="rect">
            <a:avLst/>
          </a:prstGeom>
          <a:ln w="0">
            <a:noFill/>
          </a:ln>
        </p:spPr>
      </p:pic>
      <p:sp>
        <p:nvSpPr>
          <p:cNvPr id="1392" name="矩形 129026"/>
          <p:cNvSpPr/>
          <p:nvPr/>
        </p:nvSpPr>
        <p:spPr>
          <a:xfrm>
            <a:off x="912960" y="3832200"/>
            <a:ext cx="63291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29027"/>
          <p:cNvSpPr/>
          <p:nvPr/>
        </p:nvSpPr>
        <p:spPr>
          <a:xfrm>
            <a:off x="841320" y="4314960"/>
            <a:ext cx="63295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29028"/>
          <p:cNvSpPr/>
          <p:nvPr/>
        </p:nvSpPr>
        <p:spPr>
          <a:xfrm>
            <a:off x="841320" y="4788000"/>
            <a:ext cx="63295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9029"/>
          <p:cNvSpPr/>
          <p:nvPr/>
        </p:nvSpPr>
        <p:spPr>
          <a:xfrm>
            <a:off x="851040" y="5353200"/>
            <a:ext cx="632916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9030"/>
          <p:cNvSpPr/>
          <p:nvPr/>
        </p:nvSpPr>
        <p:spPr>
          <a:xfrm>
            <a:off x="851040" y="5805360"/>
            <a:ext cx="63291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28001" descr=""/>
          <p:cNvPicPr/>
          <p:nvPr/>
        </p:nvPicPr>
        <p:blipFill>
          <a:blip r:embed="rId1"/>
          <a:stretch/>
        </p:blipFill>
        <p:spPr>
          <a:xfrm>
            <a:off x="295200" y="792000"/>
            <a:ext cx="8172360" cy="3953160"/>
          </a:xfrm>
          <a:prstGeom prst="rect">
            <a:avLst/>
          </a:prstGeom>
          <a:ln w="0">
            <a:noFill/>
          </a:ln>
        </p:spPr>
      </p:pic>
      <p:sp>
        <p:nvSpPr>
          <p:cNvPr id="1398" name="矩形 128002"/>
          <p:cNvSpPr/>
          <p:nvPr/>
        </p:nvSpPr>
        <p:spPr>
          <a:xfrm>
            <a:off x="719280" y="2301840"/>
            <a:ext cx="5653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8003"/>
          <p:cNvSpPr/>
          <p:nvPr/>
        </p:nvSpPr>
        <p:spPr>
          <a:xfrm>
            <a:off x="615960" y="2793960"/>
            <a:ext cx="5653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8004"/>
          <p:cNvSpPr/>
          <p:nvPr/>
        </p:nvSpPr>
        <p:spPr>
          <a:xfrm>
            <a:off x="563400" y="3276720"/>
            <a:ext cx="5653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8005"/>
          <p:cNvSpPr/>
          <p:nvPr/>
        </p:nvSpPr>
        <p:spPr>
          <a:xfrm>
            <a:off x="582480" y="3760920"/>
            <a:ext cx="5653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8006"/>
          <p:cNvSpPr/>
          <p:nvPr/>
        </p:nvSpPr>
        <p:spPr>
          <a:xfrm>
            <a:off x="582480" y="4295880"/>
            <a:ext cx="5653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图片 126977" descr=""/>
          <p:cNvPicPr/>
          <p:nvPr/>
        </p:nvPicPr>
        <p:blipFill>
          <a:blip r:embed="rId1"/>
          <a:stretch/>
        </p:blipFill>
        <p:spPr>
          <a:xfrm>
            <a:off x="217440" y="866880"/>
            <a:ext cx="8124840" cy="4971960"/>
          </a:xfrm>
          <a:prstGeom prst="rect">
            <a:avLst/>
          </a:prstGeom>
          <a:ln w="0">
            <a:noFill/>
          </a:ln>
        </p:spPr>
      </p:pic>
      <p:sp>
        <p:nvSpPr>
          <p:cNvPr id="1404" name="矩形 126978"/>
          <p:cNvSpPr/>
          <p:nvPr/>
        </p:nvSpPr>
        <p:spPr>
          <a:xfrm>
            <a:off x="666720" y="2857680"/>
            <a:ext cx="76024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6979"/>
          <p:cNvSpPr/>
          <p:nvPr/>
        </p:nvSpPr>
        <p:spPr>
          <a:xfrm>
            <a:off x="595440" y="3349800"/>
            <a:ext cx="76024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6980"/>
          <p:cNvSpPr/>
          <p:nvPr/>
        </p:nvSpPr>
        <p:spPr>
          <a:xfrm>
            <a:off x="606600" y="3833640"/>
            <a:ext cx="76024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6981"/>
          <p:cNvSpPr/>
          <p:nvPr/>
        </p:nvSpPr>
        <p:spPr>
          <a:xfrm>
            <a:off x="565200" y="4389480"/>
            <a:ext cx="76024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6982"/>
          <p:cNvSpPr/>
          <p:nvPr/>
        </p:nvSpPr>
        <p:spPr>
          <a:xfrm>
            <a:off x="617400" y="4832280"/>
            <a:ext cx="76028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6983"/>
          <p:cNvSpPr/>
          <p:nvPr/>
        </p:nvSpPr>
        <p:spPr>
          <a:xfrm>
            <a:off x="617400" y="5388120"/>
            <a:ext cx="76028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图片 125954" descr=""/>
          <p:cNvPicPr/>
          <p:nvPr/>
        </p:nvPicPr>
        <p:blipFill>
          <a:blip r:embed="rId1"/>
          <a:stretch/>
        </p:blipFill>
        <p:spPr>
          <a:xfrm>
            <a:off x="255600" y="884160"/>
            <a:ext cx="812484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图片 124929" descr=""/>
          <p:cNvPicPr/>
          <p:nvPr/>
        </p:nvPicPr>
        <p:blipFill>
          <a:blip r:embed="rId1"/>
          <a:stretch/>
        </p:blipFill>
        <p:spPr>
          <a:xfrm>
            <a:off x="649440" y="885960"/>
            <a:ext cx="7667640" cy="4857480"/>
          </a:xfrm>
          <a:prstGeom prst="rect">
            <a:avLst/>
          </a:prstGeom>
          <a:ln w="0">
            <a:noFill/>
          </a:ln>
        </p:spPr>
      </p:pic>
      <p:sp>
        <p:nvSpPr>
          <p:cNvPr id="1412" name="矩形 124930"/>
          <p:cNvSpPr/>
          <p:nvPr/>
        </p:nvSpPr>
        <p:spPr>
          <a:xfrm>
            <a:off x="687240" y="1901880"/>
            <a:ext cx="78091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124931"/>
          <p:cNvSpPr/>
          <p:nvPr/>
        </p:nvSpPr>
        <p:spPr>
          <a:xfrm>
            <a:off x="573120" y="2467080"/>
            <a:ext cx="79516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24932"/>
          <p:cNvSpPr/>
          <p:nvPr/>
        </p:nvSpPr>
        <p:spPr>
          <a:xfrm>
            <a:off x="666720" y="3268800"/>
            <a:ext cx="78091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24933"/>
          <p:cNvSpPr/>
          <p:nvPr/>
        </p:nvSpPr>
        <p:spPr>
          <a:xfrm>
            <a:off x="565200" y="3824280"/>
            <a:ext cx="7808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124934"/>
          <p:cNvSpPr/>
          <p:nvPr/>
        </p:nvSpPr>
        <p:spPr>
          <a:xfrm>
            <a:off x="615960" y="4226040"/>
            <a:ext cx="7808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124935"/>
          <p:cNvSpPr/>
          <p:nvPr/>
        </p:nvSpPr>
        <p:spPr>
          <a:xfrm>
            <a:off x="627120" y="4719600"/>
            <a:ext cx="7808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124936"/>
          <p:cNvSpPr/>
          <p:nvPr/>
        </p:nvSpPr>
        <p:spPr>
          <a:xfrm>
            <a:off x="606600" y="5253120"/>
            <a:ext cx="7808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图片 123905" descr=""/>
          <p:cNvPicPr/>
          <p:nvPr/>
        </p:nvPicPr>
        <p:blipFill>
          <a:blip r:embed="rId1"/>
          <a:stretch/>
        </p:blipFill>
        <p:spPr>
          <a:xfrm>
            <a:off x="176040" y="735120"/>
            <a:ext cx="8029800" cy="6124320"/>
          </a:xfrm>
          <a:prstGeom prst="rect">
            <a:avLst/>
          </a:prstGeom>
          <a:ln w="0">
            <a:noFill/>
          </a:ln>
        </p:spPr>
      </p:pic>
      <p:sp>
        <p:nvSpPr>
          <p:cNvPr id="1420" name="矩形 123906"/>
          <p:cNvSpPr/>
          <p:nvPr/>
        </p:nvSpPr>
        <p:spPr>
          <a:xfrm>
            <a:off x="728640" y="4645080"/>
            <a:ext cx="77994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123907"/>
          <p:cNvSpPr/>
          <p:nvPr/>
        </p:nvSpPr>
        <p:spPr>
          <a:xfrm>
            <a:off x="636480" y="5180040"/>
            <a:ext cx="788220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123908"/>
          <p:cNvSpPr/>
          <p:nvPr/>
        </p:nvSpPr>
        <p:spPr>
          <a:xfrm>
            <a:off x="627120" y="6032520"/>
            <a:ext cx="788184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图片 122881" descr=""/>
          <p:cNvPicPr/>
          <p:nvPr/>
        </p:nvPicPr>
        <p:blipFill>
          <a:blip r:embed="rId1"/>
          <a:stretch/>
        </p:blipFill>
        <p:spPr>
          <a:xfrm>
            <a:off x="801720" y="1046160"/>
            <a:ext cx="7515360" cy="4410000"/>
          </a:xfrm>
          <a:prstGeom prst="rect">
            <a:avLst/>
          </a:prstGeom>
          <a:ln w="0">
            <a:noFill/>
          </a:ln>
        </p:spPr>
      </p:pic>
      <p:sp>
        <p:nvSpPr>
          <p:cNvPr id="1424" name="矩形 122882"/>
          <p:cNvSpPr/>
          <p:nvPr/>
        </p:nvSpPr>
        <p:spPr>
          <a:xfrm>
            <a:off x="790560" y="936720"/>
            <a:ext cx="772632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矩形 122883"/>
          <p:cNvSpPr/>
          <p:nvPr/>
        </p:nvSpPr>
        <p:spPr>
          <a:xfrm>
            <a:off x="719280" y="1839960"/>
            <a:ext cx="772632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22884"/>
          <p:cNvSpPr/>
          <p:nvPr/>
        </p:nvSpPr>
        <p:spPr>
          <a:xfrm>
            <a:off x="779400" y="2744640"/>
            <a:ext cx="74390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矩形 122885"/>
          <p:cNvSpPr/>
          <p:nvPr/>
        </p:nvSpPr>
        <p:spPr>
          <a:xfrm>
            <a:off x="758880" y="3206880"/>
            <a:ext cx="74390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矩形 122886"/>
          <p:cNvSpPr/>
          <p:nvPr/>
        </p:nvSpPr>
        <p:spPr>
          <a:xfrm>
            <a:off x="779400" y="3678120"/>
            <a:ext cx="7726320" cy="8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122887"/>
          <p:cNvSpPr/>
          <p:nvPr/>
        </p:nvSpPr>
        <p:spPr>
          <a:xfrm>
            <a:off x="800280" y="4633920"/>
            <a:ext cx="772632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图片 140289" descr=""/>
          <p:cNvPicPr/>
          <p:nvPr/>
        </p:nvPicPr>
        <p:blipFill>
          <a:blip r:embed="rId1"/>
          <a:stretch/>
        </p:blipFill>
        <p:spPr>
          <a:xfrm>
            <a:off x="468360" y="982800"/>
            <a:ext cx="6124680" cy="30384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140290"/>
          <p:cNvSpPr/>
          <p:nvPr/>
        </p:nvSpPr>
        <p:spPr>
          <a:xfrm>
            <a:off x="923760" y="2589120"/>
            <a:ext cx="39672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140291"/>
          <p:cNvSpPr/>
          <p:nvPr/>
        </p:nvSpPr>
        <p:spPr>
          <a:xfrm>
            <a:off x="954000" y="3081240"/>
            <a:ext cx="39672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2"/>
          <p:cNvSpPr/>
          <p:nvPr/>
        </p:nvSpPr>
        <p:spPr>
          <a:xfrm>
            <a:off x="965160" y="3666960"/>
            <a:ext cx="39672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39265" descr=""/>
          <p:cNvPicPr/>
          <p:nvPr/>
        </p:nvPicPr>
        <p:blipFill>
          <a:blip r:embed="rId1"/>
          <a:stretch/>
        </p:blipFill>
        <p:spPr>
          <a:xfrm>
            <a:off x="770040" y="870120"/>
            <a:ext cx="6867360" cy="537192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39266"/>
          <p:cNvSpPr/>
          <p:nvPr/>
        </p:nvSpPr>
        <p:spPr>
          <a:xfrm>
            <a:off x="861840" y="1355760"/>
            <a:ext cx="543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39267"/>
          <p:cNvSpPr/>
          <p:nvPr/>
        </p:nvSpPr>
        <p:spPr>
          <a:xfrm>
            <a:off x="841320" y="1827360"/>
            <a:ext cx="543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39268"/>
          <p:cNvSpPr/>
          <p:nvPr/>
        </p:nvSpPr>
        <p:spPr>
          <a:xfrm>
            <a:off x="923760" y="2341440"/>
            <a:ext cx="543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39269"/>
          <p:cNvSpPr/>
          <p:nvPr/>
        </p:nvSpPr>
        <p:spPr>
          <a:xfrm>
            <a:off x="770040" y="4786200"/>
            <a:ext cx="637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39270"/>
          <p:cNvSpPr/>
          <p:nvPr/>
        </p:nvSpPr>
        <p:spPr>
          <a:xfrm>
            <a:off x="1387440" y="5268960"/>
            <a:ext cx="637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71"/>
          <p:cNvSpPr/>
          <p:nvPr/>
        </p:nvSpPr>
        <p:spPr>
          <a:xfrm>
            <a:off x="1571760" y="5740560"/>
            <a:ext cx="637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38241" descr=""/>
          <p:cNvPicPr/>
          <p:nvPr/>
        </p:nvPicPr>
        <p:blipFill>
          <a:blip r:embed="rId1"/>
          <a:stretch/>
        </p:blipFill>
        <p:spPr>
          <a:xfrm>
            <a:off x="816120" y="896760"/>
            <a:ext cx="5276880" cy="260064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8242"/>
          <p:cNvSpPr/>
          <p:nvPr/>
        </p:nvSpPr>
        <p:spPr>
          <a:xfrm>
            <a:off x="820800" y="1438200"/>
            <a:ext cx="48909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8243"/>
          <p:cNvSpPr/>
          <p:nvPr/>
        </p:nvSpPr>
        <p:spPr>
          <a:xfrm>
            <a:off x="882720" y="1963800"/>
            <a:ext cx="48909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8244"/>
          <p:cNvSpPr/>
          <p:nvPr/>
        </p:nvSpPr>
        <p:spPr>
          <a:xfrm>
            <a:off x="1150920" y="2435400"/>
            <a:ext cx="48909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8245"/>
          <p:cNvSpPr/>
          <p:nvPr/>
        </p:nvSpPr>
        <p:spPr>
          <a:xfrm>
            <a:off x="1407960" y="2927520"/>
            <a:ext cx="48913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7217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6829200" cy="284796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7218"/>
          <p:cNvSpPr/>
          <p:nvPr/>
        </p:nvSpPr>
        <p:spPr>
          <a:xfrm>
            <a:off x="820800" y="2282760"/>
            <a:ext cx="62578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7219"/>
          <p:cNvSpPr/>
          <p:nvPr/>
        </p:nvSpPr>
        <p:spPr>
          <a:xfrm>
            <a:off x="893880" y="2806560"/>
            <a:ext cx="625788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7220"/>
          <p:cNvSpPr/>
          <p:nvPr/>
        </p:nvSpPr>
        <p:spPr>
          <a:xfrm>
            <a:off x="976320" y="3298680"/>
            <a:ext cx="625788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图片 136193" descr=""/>
          <p:cNvPicPr/>
          <p:nvPr/>
        </p:nvPicPr>
        <p:blipFill>
          <a:blip r:embed="rId1"/>
          <a:stretch/>
        </p:blipFill>
        <p:spPr>
          <a:xfrm>
            <a:off x="828720" y="906480"/>
            <a:ext cx="6191280" cy="2886120"/>
          </a:xfrm>
          <a:prstGeom prst="rect">
            <a:avLst/>
          </a:prstGeom>
          <a:ln w="0">
            <a:noFill/>
          </a:ln>
        </p:spPr>
      </p:pic>
      <p:sp>
        <p:nvSpPr>
          <p:cNvPr id="1354" name="矩形 136194"/>
          <p:cNvSpPr/>
          <p:nvPr/>
        </p:nvSpPr>
        <p:spPr>
          <a:xfrm>
            <a:off x="871560" y="1768320"/>
            <a:ext cx="63086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6195"/>
          <p:cNvSpPr/>
          <p:nvPr/>
        </p:nvSpPr>
        <p:spPr>
          <a:xfrm>
            <a:off x="933480" y="2282760"/>
            <a:ext cx="63086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6196"/>
          <p:cNvSpPr/>
          <p:nvPr/>
        </p:nvSpPr>
        <p:spPr>
          <a:xfrm>
            <a:off x="963720" y="2786040"/>
            <a:ext cx="63086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6197"/>
          <p:cNvSpPr/>
          <p:nvPr/>
        </p:nvSpPr>
        <p:spPr>
          <a:xfrm>
            <a:off x="1066680" y="3268800"/>
            <a:ext cx="63090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5169" descr=""/>
          <p:cNvPicPr/>
          <p:nvPr/>
        </p:nvPicPr>
        <p:blipFill>
          <a:blip r:embed="rId1"/>
          <a:stretch/>
        </p:blipFill>
        <p:spPr>
          <a:xfrm>
            <a:off x="760320" y="933480"/>
            <a:ext cx="5133960" cy="240012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5170"/>
          <p:cNvSpPr/>
          <p:nvPr/>
        </p:nvSpPr>
        <p:spPr>
          <a:xfrm>
            <a:off x="820800" y="1830240"/>
            <a:ext cx="52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5171"/>
          <p:cNvSpPr/>
          <p:nvPr/>
        </p:nvSpPr>
        <p:spPr>
          <a:xfrm>
            <a:off x="912960" y="2354400"/>
            <a:ext cx="52401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5172"/>
          <p:cNvSpPr/>
          <p:nvPr/>
        </p:nvSpPr>
        <p:spPr>
          <a:xfrm>
            <a:off x="1004760" y="2857680"/>
            <a:ext cx="52405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134145" descr=""/>
          <p:cNvPicPr/>
          <p:nvPr/>
        </p:nvPicPr>
        <p:blipFill>
          <a:blip r:embed="rId1"/>
          <a:stretch/>
        </p:blipFill>
        <p:spPr>
          <a:xfrm>
            <a:off x="330120" y="923760"/>
            <a:ext cx="6400800" cy="386748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4146"/>
          <p:cNvSpPr/>
          <p:nvPr/>
        </p:nvSpPr>
        <p:spPr>
          <a:xfrm>
            <a:off x="1335240" y="2979720"/>
            <a:ext cx="49622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4147"/>
          <p:cNvSpPr/>
          <p:nvPr/>
        </p:nvSpPr>
        <p:spPr>
          <a:xfrm>
            <a:off x="1838160" y="3843360"/>
            <a:ext cx="3965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4148"/>
          <p:cNvSpPr/>
          <p:nvPr/>
        </p:nvSpPr>
        <p:spPr>
          <a:xfrm>
            <a:off x="2219400" y="4356000"/>
            <a:ext cx="396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3121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6458040" cy="432432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3122"/>
          <p:cNvSpPr/>
          <p:nvPr/>
        </p:nvSpPr>
        <p:spPr>
          <a:xfrm>
            <a:off x="1397160" y="1922400"/>
            <a:ext cx="5578200" cy="7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3123"/>
          <p:cNvSpPr/>
          <p:nvPr/>
        </p:nvSpPr>
        <p:spPr>
          <a:xfrm>
            <a:off x="1109520" y="2793960"/>
            <a:ext cx="60613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3124"/>
          <p:cNvSpPr/>
          <p:nvPr/>
        </p:nvSpPr>
        <p:spPr>
          <a:xfrm>
            <a:off x="1089000" y="3255840"/>
            <a:ext cx="6060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3125"/>
          <p:cNvSpPr/>
          <p:nvPr/>
        </p:nvSpPr>
        <p:spPr>
          <a:xfrm>
            <a:off x="1171440" y="3770280"/>
            <a:ext cx="60613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3126"/>
          <p:cNvSpPr/>
          <p:nvPr/>
        </p:nvSpPr>
        <p:spPr>
          <a:xfrm>
            <a:off x="1295280" y="4253040"/>
            <a:ext cx="60613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7"/>
          <p:cNvSpPr/>
          <p:nvPr/>
        </p:nvSpPr>
        <p:spPr>
          <a:xfrm>
            <a:off x="1409760" y="4797360"/>
            <a:ext cx="6060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21:55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